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C95-D11D-4C54-8008-EBC09E85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982-19FB-4E60-9208-D5A6DA39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B84-5C65-4106-BA69-85B934DC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161-0EF4-4A82-B56C-B670F1DC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D5E-AB5C-4611-9657-7C864E31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857-53DF-4AD1-9CAC-F7CA3D78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E49-778F-4A49-BB32-10A2289B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D76-79B4-4467-B2EF-932F7B02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0E0-6E46-459E-B560-156F4C92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1B1-3E49-427A-88BD-AF97113F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950-EF18-4A30-A8DD-B8264C28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7CA-B788-4786-BC85-5794142E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6A99-9A7E-4310-A7A9-CEBB896D7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6254640"/>
            <a:ext cx="748836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stellar"/>
              </a:rPr>
              <a:t>Vincent Lingiari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stellar"/>
              <a:ea typeface="Castellar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522400">
            <a:off x="5292720" y="2060280"/>
            <a:ext cx="30956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19825200">
            <a:off x="5292720" y="4797360"/>
            <a:ext cx="3403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Vincent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60280"/>
            <a:ext cx="7128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Pristi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Pristina"/>
              </a:rPr>
              <a:t>Elder of Gurindji tri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Pristi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Pristina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Pristi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Pristina"/>
              </a:rPr>
              <a:t>1966 led  group of aboriginals to the Wave Hill Walk of 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Pristi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Pristina"/>
              </a:rPr>
              <a:t>Successfully negotiated with the Australian government to get there share of their 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Jensen, Michael, 1943- Vincent Lingiari at Wattie Creek [(Daguragu), Northern Territory] when they had water on tap, 1977 [picture]"/>
          <p:cNvPicPr/>
          <p:nvPr/>
        </p:nvPicPr>
        <p:blipFill>
          <a:blip r:embed="rId1"/>
          <a:stretch/>
        </p:blipFill>
        <p:spPr>
          <a:xfrm>
            <a:off x="1763640" y="765000"/>
            <a:ext cx="571500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537372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Vincent and 200 aboriginals camped at Wattie Creek for 8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9810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o quote Vincent Ling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They said, "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Hey! You're stealing another man's country." And I said, "Well, what was before Lord Vestey born and I born? It was blackfella country.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066160" cy="437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picture shows a symbolic way of giving the people there lan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0:03Z</dcterms:created>
  <dc:creator>Reservoir District Secondary College</dc:creator>
  <dc:description/>
  <dc:language>en-US</dc:language>
  <cp:lastModifiedBy>Reservoir District Secondary College</cp:lastModifiedBy>
  <dcterms:modified xsi:type="dcterms:W3CDTF">2008-07-17T02:44:52Z</dcterms:modified>
  <cp:revision>6</cp:revision>
  <dc:subject/>
  <dc:title>Slide 1</dc:title>
</cp:coreProperties>
</file>